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A53-4E26-4D3E-A397-C064EA98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D41-9B45-4D89-A265-6A5698A4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B80-A3C3-427E-936A-D01188DC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F7B-7F22-404E-9474-DB074A60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255-A182-4B81-96E7-F38DE439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CF1-EDAB-4CEE-8040-9E7D410E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2BE-CFD7-49B9-9E6F-22728D66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7E2-9F6A-43FD-9333-4ED1D801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E05-F6A4-4904-9BB8-1C87AFA4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C8A-3266-411F-B1B7-4A2DEEC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F9A-9B15-4670-9C2D-6FEE0F99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A95-3E53-415E-B071-07875E3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3333c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9419-EC07-4077-B22C-4D3F4F894C88}" type="datetime3">
              <a:rPr b="0" lang="en-US" sz="1400" spc="-1" strike="noStrike">
                <a:solidFill>
                  <a:srgbClr val="ff0000"/>
                </a:solidFill>
                <a:latin typeface="Verdana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D3DD-E53B-4980-A7C6-DB36A0A1ACE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459640" y="6172200"/>
          <a:ext cx="6080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9640" y="6172200"/>
                    <a:ext cx="608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6320" y="6400800"/>
            <a:ext cx="83808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295280" y="6251400"/>
            <a:ext cx="77598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320" y="6134040"/>
            <a:ext cx="1447560" cy="7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8124840" y="5715000"/>
          <a:ext cx="10126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4840" y="5715000"/>
                    <a:ext cx="1012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76320" y="76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I  PLASTICS  PACK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914400" y="6615000"/>
            <a:ext cx="7175520" cy="700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3" marL="1371600" algn="ctr">
              <a:spcBef>
                <a:spcPts val="601"/>
              </a:spcBef>
              <a:buClr>
                <a:srgbClr val="3333cc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4" marL="1828800" algn="ctr">
              <a:spcBef>
                <a:spcPts val="601"/>
              </a:spcBef>
              <a:buClr>
                <a:srgbClr val="3333cc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Verdana"/>
              </a:rPr>
              <a:t>Recycling of Timber Used in the Plastics Packaging Industry</a:t>
            </a:r>
            <a:r>
              <a:rPr b="0" lang="en-AU" sz="2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38858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Presenter: Robert Dvorak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EcoRecycle Victoria’s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Timberlinks Network Business Breakfast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26</a:t>
            </a:r>
            <a:r>
              <a:rPr b="1" lang="en-AU" sz="2400" spc="-1" strike="noStrike" baseline="30000">
                <a:solidFill>
                  <a:srgbClr val="3333cc"/>
                </a:solidFill>
                <a:latin typeface="Verdana"/>
              </a:rPr>
              <a:t>th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 of March, 2003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0000"/>
                </a:solidFill>
                <a:latin typeface="Verdana"/>
              </a:rPr>
              <a:t>Acknowledgements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Verdana"/>
              </a:rPr>
              <a:t>EcoRecycle Victoria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(Kevin Mooney/David Rako)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Verdana"/>
              </a:rPr>
              <a:t>Waste Converters Recycling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(Ward Petherbridge)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Verdana"/>
              </a:rPr>
              <a:t>ACI 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(Andrew Ebert, Executive Team,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Verdana"/>
              </a:rPr>
              <a:t>Factory Personnel)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873-DFB6-4BCF-82D8-5E63AA4A43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86A71-6455-44B6-A638-AF9C621156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Types of Timber Waste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0000"/>
                </a:solidFill>
                <a:latin typeface="Verdana"/>
              </a:rPr>
              <a:t>Broken and damaged wooden pallets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0000"/>
                </a:solidFill>
                <a:latin typeface="Verdana"/>
              </a:rPr>
              <a:t>Timber packaging such as top frames and to some extent masonite boards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0000"/>
                </a:solidFill>
                <a:latin typeface="Verdana"/>
              </a:rPr>
              <a:t>Solid wooden platforms &amp; plywood boards from imported machinery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0000"/>
                </a:solidFill>
                <a:latin typeface="Verdana"/>
              </a:rPr>
              <a:t>Wooden boxes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0000"/>
                </a:solidFill>
                <a:latin typeface="Verdana"/>
              </a:rPr>
              <a:t>Other wooden pieces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AFE-1312-4923-9878-D3505DB46C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62444-F531-4F9E-895A-76FB75B3149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0000"/>
                </a:solidFill>
                <a:latin typeface="Verdana"/>
              </a:rPr>
              <a:t>Used Timber Packaging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95" name="Timber1_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1508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E92-7302-4D0B-8D18-C8DCFD1D0F3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51265-8667-4F29-B731-8D65AAE1CB3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ost Analysis of Timber Recycling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Analysis of 2002 annual disposal costs discovered to be approximately –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$70,000 (at one site only)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Hidden costs due to loss of resources.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Approximate Cost of disposal of all timber to the landfill was approximated to b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$8,000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However.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Recycling of all the timber was NOT FRE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tal Removal Fees &amp; Labour Costs added up to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$2,000. 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Careful planning, advice and key contacts from Ecorecycle Vic has saved ACI $6,000.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D18-2F14-4B5C-9122-525DED7084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335B0-A2A2-4C49-B423-94E5CD9817B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How was it achieved ?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ocus at management level on the environmental responsibility a business has to the wider community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Awareness of EcoRecycle Vic direction, knowledge and experience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(i)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Government focus on reducing waste to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landfill (e.g. higher landfill fees)</a:t>
            </a:r>
            <a:br>
              <a:rPr sz="2000"/>
            </a:b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(ii)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Help from EcoRecycle for ACI to link-up with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recycling business &amp; provide advice on how to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best recycle other materials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DA2-3037-47A8-BAD2-1CE53FD650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5E834-EF1B-4CFB-99A2-1E6DF76DBF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How was it achieved &amp; who benefited?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A strategy was put in place on the most cost effective and environmentally beneficial way to clean-up scrap at ACI and ensure that long term waste generation is minimised and eliminated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taff morale had increased and other ACI personnel became interested in what was being done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Other ACI sites have now approached the Executive Team to fully develop a strategy for all sites.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EB2-1147-49D0-AB43-FD9B8ABD05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C9FF6-E798-47CC-9B80-85BBBADFE80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What has been achieved overall ?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ite has been cleaned up with minimal amount going to landfill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Land area free of scrap has increased by 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over 2,000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2 full skips of steel removed free of charge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104" name="Timber2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3657600" cy="3318120"/>
          </a:xfrm>
          <a:prstGeom prst="rect">
            <a:avLst/>
          </a:prstGeom>
          <a:ln w="0">
            <a:noFill/>
          </a:ln>
        </p:spPr>
      </p:pic>
      <p:pic>
        <p:nvPicPr>
          <p:cNvPr id="105" name="Timber3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191120" cy="33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4EB-B75C-47EC-B0A3-269C96A429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A40F0-5B6D-4AA1-9182-74C9D4B292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What has been achieved overall ?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Council, safety, fire risks minimised or eliminated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5 Semi-trailers worth of timber removed for recycling 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(75% cost saving by recycling it vs. landfill option)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Management focus on a company wide recycling strategy and waste generation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108" name="Timber4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4114800" cy="3327480"/>
          </a:xfrm>
          <a:prstGeom prst="rect">
            <a:avLst/>
          </a:prstGeom>
          <a:ln w="0">
            <a:noFill/>
          </a:ln>
        </p:spPr>
      </p:pic>
      <p:pic>
        <p:nvPicPr>
          <p:cNvPr id="109" name="Timber5" descr=""/>
          <p:cNvPicPr/>
          <p:nvPr/>
        </p:nvPicPr>
        <p:blipFill>
          <a:blip r:embed="rId2"/>
          <a:stretch/>
        </p:blipFill>
        <p:spPr>
          <a:xfrm>
            <a:off x="4724280" y="2666880"/>
            <a:ext cx="3886200" cy="335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564-A071-4182-ADDF-F2434CCE20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0DCAF-D1B8-449A-988B-5C17C7ECD11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Company management need to develop &amp; fully support a recycling strategy best tailored to their business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Important to find “the right recycling partners”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Loss of material resources to waste and landfill is a good indicator of manufacturing inefficiency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Important to value the benefits of recycling by:  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(i)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inancial Analysis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(ii)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afety Analysis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(iii)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Environmental &amp; Social Analysis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All of the above are equally important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198-E6ED-41A4-B2B8-286C30CC8C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35783-7129-470D-B92E-90F3A7B3B5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01:14:01Z</dcterms:created>
  <dc:creator>PET01073</dc:creator>
  <dc:description/>
  <dc:language>en-US</dc:language>
  <cp:lastModifiedBy>x</cp:lastModifiedBy>
  <cp:lastPrinted>2003-03-18T06:44:43Z</cp:lastPrinted>
  <dcterms:modified xsi:type="dcterms:W3CDTF">2004-06-21T00:38:37Z</dcterms:modified>
  <cp:revision>48</cp:revision>
  <dc:subject/>
  <dc:title>No Slide Title</dc:title>
</cp:coreProperties>
</file>